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gif" ContentType="image/gif"/>
  <Override PartName="/ppt/media/image4.gif" ContentType="image/gif"/>
  <Override PartName="/ppt/media/image11.jpeg" ContentType="image/jpeg"/>
  <Override PartName="/ppt/media/image5.gif" ContentType="image/gif"/>
  <Override PartName="/ppt/media/image6.gif" ContentType="image/gif"/>
  <Override PartName="/ppt/media/image10.jpeg" ContentType="image/jpeg"/>
  <Override PartName="/ppt/media/image7.gif" ContentType="image/gif"/>
  <Override PartName="/ppt/media/image12.gif" ContentType="image/gif"/>
  <Override PartName="/ppt/media/image8.gif" ContentType="image/gif"/>
  <Override PartName="/ppt/media/image13.gif" ContentType="image/gif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Rounded MT Bold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BE798-420B-4C1F-B555-44F28B2E1B2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ing a microscope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ter Loader @ T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of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ate today is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im of the experi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im of the experiment was to make a microscope slide of an onion skin, look at it at different magnifications and draw what we saw.  We needed to identify the cell walls, nucleus and the cytoplas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ter Loader @ T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of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fe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be safe we wore goggles and were very careful how we used the scalpel.  Because the glass could have broken we were very careful how we held 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ter Loader @ T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of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ara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is experiment we used a microscope, a glass slide, a cover slip, a pair of forceps and a piece of onion ski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ter Loader @ T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 of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h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ut open an onion and took a piece of very thin skin.  We placed this onto the middle of a microscope slide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n we put a thin piece of glass called a cover slip on top of the onion skin and gently pressed it fla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ter that we put the slide under a microscope with the lens set at low magnific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ter Loader @ T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 of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h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turned the focus dial until we could clearly see the skin.  We used a pencil to draw what we saw and labelled it with the magnific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ter Loader @ T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 of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what we saw.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igher the magnification we used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igger the cells becam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ter Loader @ T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 of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20 x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if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50 x magnif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100 x magnif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 w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ose up of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ion sk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ytopla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conclus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icroscope let us see the onion skin at different magnification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 x 20 magnification it still looked quite far away but we could see some cel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x 50 magnification we could see the cells clearly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x 100 magnification we could see individual cells, and the cell walls containing the cytoplas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 of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ter Loader @ T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2E2CA-77C9-45BB-A649-4B131070F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844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8440" y="1981080"/>
            <a:ext cx="6629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8440" y="4130640"/>
            <a:ext cx="6629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2495B-4FB4-4BBD-8CE6-880EDF301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844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8440" y="1981080"/>
            <a:ext cx="3234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25400" y="1981080"/>
            <a:ext cx="3234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8440" y="4130640"/>
            <a:ext cx="3234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225400" y="4130640"/>
            <a:ext cx="3234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C3172-82F4-4F4E-9483-5F3250B92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844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8440" y="1981080"/>
            <a:ext cx="213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070160" y="1981080"/>
            <a:ext cx="213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11520" y="1981080"/>
            <a:ext cx="213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8440" y="4130640"/>
            <a:ext cx="213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070160" y="4130640"/>
            <a:ext cx="213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11520" y="4130640"/>
            <a:ext cx="213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D55F7-198B-452E-999B-33FE002E6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0A9C7-7E7E-4A05-A663-1C1EF1570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82844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828440" y="1981080"/>
            <a:ext cx="6629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5F2D1-AE96-4E50-97BD-EE69B99D5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82844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828440" y="1981080"/>
            <a:ext cx="6629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B1778-A500-4E72-946A-B37495A1F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82844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828440" y="1981080"/>
            <a:ext cx="323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225400" y="1981080"/>
            <a:ext cx="323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3A9C3-2B39-4D50-B93D-59DCB677F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82844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A8C92-B485-4FDD-A554-5C6D683A2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828440" y="609120"/>
            <a:ext cx="6629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ED905-EC38-48C7-89B2-40562CA45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82844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828440" y="1981080"/>
            <a:ext cx="3234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225400" y="1981080"/>
            <a:ext cx="323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828440" y="4130640"/>
            <a:ext cx="3234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C43F5-2D07-4147-87D1-47B7ED5D4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844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8440" y="1981080"/>
            <a:ext cx="6629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49ACC-F02B-41A3-84E3-66E314216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82844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828440" y="1981080"/>
            <a:ext cx="323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225400" y="1981080"/>
            <a:ext cx="3234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225400" y="4130640"/>
            <a:ext cx="3234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CDB44-47CA-410A-8B14-01D0AE0F8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82844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828440" y="1981080"/>
            <a:ext cx="3234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225400" y="1981080"/>
            <a:ext cx="3234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828440" y="4130640"/>
            <a:ext cx="6629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5A645-93DD-4D9F-8E24-258E08ACC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82844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828440" y="1981080"/>
            <a:ext cx="6629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828440" y="4130640"/>
            <a:ext cx="6629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4C08C-12C9-4E2D-BA73-229525A1A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82844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828440" y="1981080"/>
            <a:ext cx="3234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25400" y="1981080"/>
            <a:ext cx="3234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828440" y="4130640"/>
            <a:ext cx="3234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225400" y="4130640"/>
            <a:ext cx="3234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EADA6-51AC-4B48-9A27-E82E8D38E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82844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828440" y="1981080"/>
            <a:ext cx="213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070160" y="1981080"/>
            <a:ext cx="213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311520" y="1981080"/>
            <a:ext cx="213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828440" y="4130640"/>
            <a:ext cx="213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4070160" y="4130640"/>
            <a:ext cx="213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311520" y="4130640"/>
            <a:ext cx="213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2FC14-7EFB-4322-B3EB-BAC086568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844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8440" y="1981080"/>
            <a:ext cx="6629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F5B5F-318F-4BC4-BFDB-B78AA9FF3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844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8440" y="1981080"/>
            <a:ext cx="323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225400" y="1981080"/>
            <a:ext cx="323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19113-7DA5-4D99-9090-EBFA84967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844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79EED-5832-457E-91ED-CB6A9DE80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8440" y="609120"/>
            <a:ext cx="6629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884D6-E787-4428-A533-8159377C4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844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8440" y="1981080"/>
            <a:ext cx="3234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25400" y="1981080"/>
            <a:ext cx="323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8440" y="4130640"/>
            <a:ext cx="3234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69FD7-EB65-470A-97E6-D58283D2B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844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8440" y="1981080"/>
            <a:ext cx="323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25400" y="1981080"/>
            <a:ext cx="3234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225400" y="4130640"/>
            <a:ext cx="3234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79D4D-DFEC-476B-803A-C221655A3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844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8440" y="1981080"/>
            <a:ext cx="3234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25400" y="1981080"/>
            <a:ext cx="3234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8440" y="4130640"/>
            <a:ext cx="6629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01E43-3E49-488A-93C6-31814D3DF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844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Rounded MT Bold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8440" y="1981080"/>
            <a:ext cx="6629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Arial Rounded MT Bol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 Rounded MT Bold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Arial Rounded MT Bol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E4533-4479-46C0-8F42-6EF57786A70F}" type="slidenum">
              <a:rPr b="0" lang="en-GB" sz="1000" spc="-1" strike="noStrike">
                <a:solidFill>
                  <a:srgbClr val="ffffff"/>
                </a:solidFill>
                <a:latin typeface="Arial Rounded MT Bol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8" descr="lens_anim"/>
          <p:cNvPicPr/>
          <p:nvPr/>
        </p:nvPicPr>
        <p:blipFill>
          <a:blip r:embed="rId3"/>
          <a:stretch/>
        </p:blipFill>
        <p:spPr>
          <a:xfrm>
            <a:off x="7010280" y="4724280"/>
            <a:ext cx="2133720" cy="21337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82844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Rounded MT Bold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828440" y="1981080"/>
            <a:ext cx="6629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Arial Rounded MT Bol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 Rounded MT Bold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Arial Rounded MT Bol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09C32-9FD6-4E8F-8ABC-3C0D185B514F}" type="slidenum">
              <a:rPr b="0" lang="en-GB" sz="1000" spc="-1" strike="noStrike">
                <a:solidFill>
                  <a:srgbClr val="ffffff"/>
                </a:solidFill>
                <a:latin typeface="Arial Rounded MT Bol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771280" y="162828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 u="sng">
                <a:solidFill>
                  <a:srgbClr val="ffffff"/>
                </a:solidFill>
                <a:uFillTx/>
                <a:latin typeface="Gill Sans MT Schoolbook"/>
              </a:rPr>
              <a:t>Making a microscope slide</a:t>
            </a: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8028000" y="-27000"/>
            <a:ext cx="115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Peter Loader @ TL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-36360" y="-27000"/>
            <a:ext cx="504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1 of 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6"/>
          <p:cNvSpPr/>
          <p:nvPr/>
        </p:nvSpPr>
        <p:spPr>
          <a:xfrm>
            <a:off x="2124000" y="836640"/>
            <a:ext cx="30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ill Sans MT Schoolbook"/>
              </a:rPr>
              <a:t>The date today is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 Rounded MT Bold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79280" y="76464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 u="sng">
                <a:solidFill>
                  <a:srgbClr val="ffffff"/>
                </a:solidFill>
                <a:uFillTx/>
                <a:latin typeface="Gill Sans MT Schoolbook"/>
              </a:rPr>
              <a:t>Aim of the experiment</a:t>
            </a: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627280" y="2205000"/>
            <a:ext cx="6121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 Rounded MT Bold"/>
              </a:rPr>
              <a:t>    </a:t>
            </a:r>
            <a:r>
              <a:rPr b="0" lang="en-GB" sz="2400" spc="-1" strike="noStrike">
                <a:solidFill>
                  <a:srgbClr val="ffffff"/>
                </a:solidFill>
                <a:latin typeface="Gill Sans MT Schoolbook"/>
              </a:rPr>
              <a:t>The aim of the experiment was to make a microscope slide of an onion skin, look at it at different magnifications and draw what we saw.  We needed to identify the cell walls, nucleus and the cytoplasm.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8028000" y="-27000"/>
            <a:ext cx="115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Peter Loader @ TL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5"/>
          <p:cNvSpPr/>
          <p:nvPr/>
        </p:nvSpPr>
        <p:spPr>
          <a:xfrm>
            <a:off x="-36360" y="-27000"/>
            <a:ext cx="504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2 of 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6" descr="exclaim_hg_clr"/>
          <p:cNvPicPr/>
          <p:nvPr/>
        </p:nvPicPr>
        <p:blipFill>
          <a:blip r:embed="rId1"/>
          <a:stretch/>
        </p:blipFill>
        <p:spPr>
          <a:xfrm>
            <a:off x="8129520" y="260280"/>
            <a:ext cx="843120" cy="2109960"/>
          </a:xfrm>
          <a:prstGeom prst="rect">
            <a:avLst/>
          </a:prstGeom>
          <a:ln w="0">
            <a:noFill/>
          </a:ln>
        </p:spPr>
      </p:pic>
      <p:sp>
        <p:nvSpPr>
          <p:cNvPr id="10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 Rounded MT Bold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82844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 u="sng">
                <a:solidFill>
                  <a:srgbClr val="ffffff"/>
                </a:solidFill>
                <a:uFillTx/>
                <a:latin typeface="Gill Sans MT Schoolbook"/>
              </a:rPr>
              <a:t>Safety</a:t>
            </a: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700000" y="2133720"/>
            <a:ext cx="5551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 Rounded MT Bold"/>
              </a:rPr>
              <a:t>    </a:t>
            </a:r>
            <a:r>
              <a:rPr b="0" lang="en-GB" sz="2400" spc="-1" strike="noStrike">
                <a:solidFill>
                  <a:srgbClr val="ffffff"/>
                </a:solidFill>
                <a:latin typeface="Gill Sans MT Schoolbook"/>
              </a:rPr>
              <a:t>To be safe we wore goggles and were very careful how we used the scalpel.  Because the glass could have broken we were very careful how we held it.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8028000" y="-27000"/>
            <a:ext cx="115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Peter Loader @ TL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-36360" y="-27000"/>
            <a:ext cx="504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3 of 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6" descr="chemical_hazard_safety_poisonous_square_rotate_lg_clr"/>
          <p:cNvPicPr/>
          <p:nvPr/>
        </p:nvPicPr>
        <p:blipFill>
          <a:blip r:embed="rId1"/>
          <a:stretch/>
        </p:blipFill>
        <p:spPr>
          <a:xfrm>
            <a:off x="2700360" y="549360"/>
            <a:ext cx="1238400" cy="12380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" descr="safety_goggles_detail_lg_clr"/>
          <p:cNvPicPr/>
          <p:nvPr/>
        </p:nvPicPr>
        <p:blipFill>
          <a:blip r:embed="rId2"/>
          <a:stretch/>
        </p:blipFill>
        <p:spPr>
          <a:xfrm>
            <a:off x="6372360" y="907920"/>
            <a:ext cx="1145880" cy="681120"/>
          </a:xfrm>
          <a:prstGeom prst="rect">
            <a:avLst/>
          </a:prstGeom>
          <a:ln w="0">
            <a:noFill/>
          </a:ln>
        </p:spPr>
      </p:pic>
      <p:sp>
        <p:nvSpPr>
          <p:cNvPr id="1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 Rounded MT Bold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82844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 u="sng">
                <a:solidFill>
                  <a:srgbClr val="ffffff"/>
                </a:solidFill>
                <a:uFillTx/>
                <a:latin typeface="Gill Sans MT Schoolbook"/>
              </a:rPr>
              <a:t>Apparatus</a:t>
            </a: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987640" y="2492280"/>
            <a:ext cx="5616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 Rounded MT Bold"/>
              </a:rPr>
              <a:t>     </a:t>
            </a:r>
            <a:r>
              <a:rPr b="0" lang="en-GB" sz="2400" spc="-1" strike="noStrike">
                <a:solidFill>
                  <a:srgbClr val="ffffff"/>
                </a:solidFill>
                <a:latin typeface="Gill Sans MT Schoolbook"/>
              </a:rPr>
              <a:t>In this experiment we used a microscope, a glass slide, a cover slip, a pair of forceps and a piece of onion skin. 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8028000" y="-27000"/>
            <a:ext cx="115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Peter Loader @ TL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-36360" y="-27000"/>
            <a:ext cx="504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4 of 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Picture 7" descr="microscope_switching_lenses_hg_clr"/>
          <p:cNvPicPr/>
          <p:nvPr/>
        </p:nvPicPr>
        <p:blipFill>
          <a:blip r:embed="rId1"/>
          <a:stretch/>
        </p:blipFill>
        <p:spPr>
          <a:xfrm>
            <a:off x="6659640" y="404640"/>
            <a:ext cx="1438200" cy="1771920"/>
          </a:xfrm>
          <a:prstGeom prst="rect">
            <a:avLst/>
          </a:prstGeom>
          <a:ln w="0">
            <a:noFill/>
          </a:ln>
        </p:spPr>
      </p:pic>
      <p:sp>
        <p:nvSpPr>
          <p:cNvPr id="1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 Rounded MT Bold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82844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 u="sng">
                <a:solidFill>
                  <a:srgbClr val="ffffff"/>
                </a:solidFill>
                <a:uFillTx/>
                <a:latin typeface="Gill Sans MT Schoolbook"/>
              </a:rPr>
              <a:t>Method</a:t>
            </a: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484000" y="1699920"/>
            <a:ext cx="623412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 Rounded MT Bold"/>
              </a:rPr>
              <a:t>     </a:t>
            </a:r>
            <a:r>
              <a:rPr b="0" lang="en-GB" sz="2000" spc="-1" strike="noStrike">
                <a:solidFill>
                  <a:srgbClr val="ffffff"/>
                </a:solidFill>
                <a:latin typeface="Gill Sans MT Schoolbook"/>
              </a:rPr>
              <a:t>We cut open an onion and took a piece of very thin skin.  We placed this onto the middle of a microscope slide.  </a:t>
            </a:r>
            <a:endParaRPr b="0" lang="en-US" sz="20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Gill Sans MT Schoolbook"/>
              </a:rPr>
              <a:t>     </a:t>
            </a:r>
            <a:r>
              <a:rPr b="0" lang="en-GB" sz="2000" spc="-1" strike="noStrike">
                <a:solidFill>
                  <a:srgbClr val="ffffff"/>
                </a:solidFill>
                <a:latin typeface="Gill Sans MT Schoolbook"/>
              </a:rPr>
              <a:t>Then we put a thin piece of glass called a cover slip on top of the onion skin and gently pressed it flat.</a:t>
            </a:r>
            <a:endParaRPr b="0" lang="en-US" sz="20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Gill Sans MT Schoolbook"/>
              </a:rPr>
              <a:t>     </a:t>
            </a:r>
            <a:r>
              <a:rPr b="0" lang="en-GB" sz="2000" spc="-1" strike="noStrike">
                <a:solidFill>
                  <a:srgbClr val="ffffff"/>
                </a:solidFill>
                <a:latin typeface="Gill Sans MT Schoolbook"/>
              </a:rPr>
              <a:t>After that we put the slide under a microscope with the lens set at low magnification.</a:t>
            </a:r>
            <a:endParaRPr b="0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8028000" y="-27000"/>
            <a:ext cx="115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Peter Loader @ TL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-36360" y="-27000"/>
            <a:ext cx="504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5 of 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Picture 6" descr="mad_scientist_mixing_solution_hg_clr"/>
          <p:cNvPicPr/>
          <p:nvPr/>
        </p:nvPicPr>
        <p:blipFill>
          <a:blip r:embed="rId1"/>
          <a:stretch/>
        </p:blipFill>
        <p:spPr>
          <a:xfrm>
            <a:off x="6588000" y="333360"/>
            <a:ext cx="1084320" cy="1488960"/>
          </a:xfrm>
          <a:prstGeom prst="rect">
            <a:avLst/>
          </a:prstGeom>
          <a:ln w="0">
            <a:noFill/>
          </a:ln>
        </p:spPr>
      </p:pic>
      <p:sp>
        <p:nvSpPr>
          <p:cNvPr id="1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 Rounded MT Bold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82844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 u="sng">
                <a:solidFill>
                  <a:srgbClr val="ffffff"/>
                </a:solidFill>
                <a:uFillTx/>
                <a:latin typeface="Gill Sans MT Schoolbook"/>
              </a:rPr>
              <a:t>Method</a:t>
            </a: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484000" y="1699920"/>
            <a:ext cx="623412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 Rounded MT Bold"/>
              </a:rPr>
              <a:t>     </a:t>
            </a:r>
            <a:r>
              <a:rPr b="0" lang="en-GB" sz="2400" spc="-1" strike="noStrike">
                <a:solidFill>
                  <a:srgbClr val="ffffff"/>
                </a:solidFill>
                <a:latin typeface="Gill Sans MT Schoolbook"/>
              </a:rPr>
              <a:t>We turned the focus dial until we could clearly see the skin.  We used a pencil to draw what we saw and labelled it with the magnification.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ill Sans MT Schoolbook"/>
              </a:rPr>
              <a:t>     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8028000" y="-27000"/>
            <a:ext cx="115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Peter Loader @ TL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-36360" y="-27000"/>
            <a:ext cx="504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6 of 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6" descr="mad_scientist_mixing_solution_hg_clr"/>
          <p:cNvPicPr/>
          <p:nvPr/>
        </p:nvPicPr>
        <p:blipFill>
          <a:blip r:embed="rId1"/>
          <a:stretch/>
        </p:blipFill>
        <p:spPr>
          <a:xfrm>
            <a:off x="6588000" y="333360"/>
            <a:ext cx="1084320" cy="1488960"/>
          </a:xfrm>
          <a:prstGeom prst="rect">
            <a:avLst/>
          </a:prstGeom>
          <a:ln w="0">
            <a:noFill/>
          </a:ln>
        </p:spPr>
      </p:pic>
      <p:sp>
        <p:nvSpPr>
          <p:cNvPr id="12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 Rounded MT Bold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419280" y="691920"/>
            <a:ext cx="3384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 u="sng">
                <a:solidFill>
                  <a:srgbClr val="ffffff"/>
                </a:solidFill>
                <a:uFillTx/>
                <a:latin typeface="Gill Sans MT Schoolbook"/>
              </a:rPr>
              <a:t>Results</a:t>
            </a: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700000" y="1762200"/>
            <a:ext cx="6629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ill Sans MT Schoolbook"/>
              </a:rPr>
              <a:t>    </a:t>
            </a:r>
            <a:r>
              <a:rPr b="0" lang="en-GB" sz="2000" spc="-1" strike="noStrike">
                <a:solidFill>
                  <a:srgbClr val="ffffff"/>
                </a:solidFill>
                <a:latin typeface="Gill Sans MT Schoolbook"/>
              </a:rPr>
              <a:t>This is what we saw.   </a:t>
            </a:r>
            <a:endParaRPr b="0" lang="en-US" sz="20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Gill Sans MT Schoolbook"/>
              </a:rPr>
              <a:t>     </a:t>
            </a:r>
            <a:r>
              <a:rPr b="0" lang="en-GB" sz="2000" spc="-1" strike="noStrike">
                <a:solidFill>
                  <a:srgbClr val="ffffff"/>
                </a:solidFill>
                <a:latin typeface="Gill Sans MT Schoolbook"/>
              </a:rPr>
              <a:t>The higher the magnification we used </a:t>
            </a:r>
            <a:br>
              <a:rPr sz="2000"/>
            </a:br>
            <a:r>
              <a:rPr b="0" lang="en-GB" sz="2000" spc="-1" strike="noStrike">
                <a:solidFill>
                  <a:srgbClr val="ffffff"/>
                </a:solidFill>
                <a:latin typeface="Gill Sans MT Schoolbook"/>
              </a:rPr>
              <a:t>the bigger the cells became.</a:t>
            </a:r>
            <a:r>
              <a:rPr b="0" lang="en-GB" sz="24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8028000" y="-27000"/>
            <a:ext cx="115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Peter Loader @ TL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-36360" y="-27000"/>
            <a:ext cx="504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7 of 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6" descr="mag1"/>
          <p:cNvPicPr/>
          <p:nvPr/>
        </p:nvPicPr>
        <p:blipFill>
          <a:blip r:embed="rId1"/>
          <a:stretch/>
        </p:blipFill>
        <p:spPr>
          <a:xfrm>
            <a:off x="3179880" y="4255920"/>
            <a:ext cx="1247760" cy="8287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7" descr="mag2"/>
          <p:cNvPicPr/>
          <p:nvPr/>
        </p:nvPicPr>
        <p:blipFill>
          <a:blip r:embed="rId2"/>
          <a:stretch/>
        </p:blipFill>
        <p:spPr>
          <a:xfrm>
            <a:off x="5146560" y="4265640"/>
            <a:ext cx="1225800" cy="819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8" descr="mag3"/>
          <p:cNvPicPr/>
          <p:nvPr/>
        </p:nvPicPr>
        <p:blipFill>
          <a:blip r:embed="rId3"/>
          <a:stretch/>
        </p:blipFill>
        <p:spPr>
          <a:xfrm>
            <a:off x="7236000" y="4267080"/>
            <a:ext cx="1225440" cy="81756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9"/>
          <p:cNvSpPr/>
          <p:nvPr/>
        </p:nvSpPr>
        <p:spPr>
          <a:xfrm>
            <a:off x="3130560" y="3568680"/>
            <a:ext cx="2089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Gill Sans MT Schoolbook"/>
              </a:rPr>
              <a:t>At 20 x </a:t>
            </a:r>
            <a:br>
              <a:rPr sz="1600"/>
            </a:br>
            <a:r>
              <a:rPr b="0" lang="en-GB" sz="1600" spc="-1" strike="noStrike">
                <a:solidFill>
                  <a:srgbClr val="ffffff"/>
                </a:solidFill>
                <a:latin typeface="Gill Sans MT Schoolbook"/>
              </a:rPr>
              <a:t>magn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10"/>
          <p:cNvSpPr/>
          <p:nvPr/>
        </p:nvSpPr>
        <p:spPr>
          <a:xfrm>
            <a:off x="5005440" y="3568680"/>
            <a:ext cx="1727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Gill Sans MT Schoolbook"/>
              </a:rPr>
              <a:t>At 50 x magn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11"/>
          <p:cNvSpPr/>
          <p:nvPr/>
        </p:nvSpPr>
        <p:spPr>
          <a:xfrm>
            <a:off x="7054920" y="3573360"/>
            <a:ext cx="2089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Gill Sans MT Schoolbook"/>
              </a:rPr>
              <a:t>At 100 x magn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Picture 13" descr="mad_scientist_giving_lecture_hg_clr"/>
          <p:cNvPicPr/>
          <p:nvPr/>
        </p:nvPicPr>
        <p:blipFill>
          <a:blip r:embed="rId4"/>
          <a:stretch/>
        </p:blipFill>
        <p:spPr>
          <a:xfrm>
            <a:off x="6659640" y="549360"/>
            <a:ext cx="1476360" cy="131112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15"/>
          <p:cNvSpPr/>
          <p:nvPr/>
        </p:nvSpPr>
        <p:spPr>
          <a:xfrm>
            <a:off x="6516720" y="5229360"/>
            <a:ext cx="107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Gill Sans MT Schoolbook"/>
              </a:rPr>
              <a:t>Cell wa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Line 16"/>
          <p:cNvSpPr/>
          <p:nvPr/>
        </p:nvSpPr>
        <p:spPr>
          <a:xfrm flipV="1">
            <a:off x="7380360" y="4436640"/>
            <a:ext cx="287280" cy="86364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17"/>
          <p:cNvSpPr/>
          <p:nvPr/>
        </p:nvSpPr>
        <p:spPr>
          <a:xfrm>
            <a:off x="5219640" y="5253120"/>
            <a:ext cx="144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Gill Sans MT Schoolbook"/>
              </a:rPr>
              <a:t>Nucle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18"/>
          <p:cNvSpPr/>
          <p:nvPr/>
        </p:nvSpPr>
        <p:spPr>
          <a:xfrm>
            <a:off x="3133800" y="5153040"/>
            <a:ext cx="1582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Gill Sans MT Schoolbook"/>
              </a:rPr>
              <a:t>Close up of </a:t>
            </a:r>
            <a:br>
              <a:rPr sz="1600"/>
            </a:br>
            <a:r>
              <a:rPr b="0" lang="en-GB" sz="1600" spc="-1" strike="noStrike">
                <a:solidFill>
                  <a:srgbClr val="ffffff"/>
                </a:solidFill>
                <a:latin typeface="Gill Sans MT Schoolbook"/>
              </a:rPr>
              <a:t>onion sk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Line 19"/>
          <p:cNvSpPr/>
          <p:nvPr/>
        </p:nvSpPr>
        <p:spPr>
          <a:xfrm flipV="1">
            <a:off x="5508720" y="4508640"/>
            <a:ext cx="0" cy="7920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20"/>
          <p:cNvSpPr/>
          <p:nvPr/>
        </p:nvSpPr>
        <p:spPr>
          <a:xfrm>
            <a:off x="7093080" y="5805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21"/>
          <p:cNvSpPr/>
          <p:nvPr/>
        </p:nvSpPr>
        <p:spPr>
          <a:xfrm>
            <a:off x="7702560" y="5229360"/>
            <a:ext cx="144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Gill Sans MT Schoolbook"/>
              </a:rPr>
              <a:t>Cytoplas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Line 22"/>
          <p:cNvSpPr/>
          <p:nvPr/>
        </p:nvSpPr>
        <p:spPr>
          <a:xfrm flipH="1" flipV="1">
            <a:off x="8027640" y="4868640"/>
            <a:ext cx="289080" cy="43164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 Rounded MT Bold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82844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 u="sng">
                <a:solidFill>
                  <a:srgbClr val="ffffff"/>
                </a:solidFill>
                <a:uFillTx/>
                <a:latin typeface="Gill Sans MT Schoolbook"/>
              </a:rPr>
              <a:t>Our conclusions</a:t>
            </a: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771280" y="1699920"/>
            <a:ext cx="583884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 Rounded MT Bold"/>
              </a:rPr>
              <a:t>    </a:t>
            </a:r>
            <a:r>
              <a:rPr b="0" lang="en-GB" sz="2000" spc="-1" strike="noStrike">
                <a:solidFill>
                  <a:srgbClr val="ffffff"/>
                </a:solidFill>
                <a:latin typeface="Gill Sans MT Schoolbook"/>
              </a:rPr>
              <a:t>The microscope let us see the onion skin at different magnifications.  </a:t>
            </a:r>
            <a:endParaRPr b="0" lang="en-US" sz="2000" spc="-1" strike="noStrike">
              <a:solidFill>
                <a:srgbClr val="ffffff"/>
              </a:solidFill>
              <a:latin typeface="Arial Rounded MT Bold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Rounded MT Bold"/>
            </a:endParaRPr>
          </a:p>
          <a:p>
            <a:pPr marL="33948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Gill Sans MT Schoolbook"/>
              </a:rPr>
              <a:t>     </a:t>
            </a:r>
            <a:r>
              <a:rPr b="0" lang="en-GB" sz="2000" spc="-1" strike="noStrike">
                <a:solidFill>
                  <a:srgbClr val="ffffff"/>
                </a:solidFill>
                <a:latin typeface="Gill Sans MT Schoolbook"/>
              </a:rPr>
              <a:t>At  x 20 magnification it still looked quite far away but we could see some cells.</a:t>
            </a:r>
            <a:endParaRPr b="0" lang="en-US" sz="2000" spc="-1" strike="noStrike">
              <a:solidFill>
                <a:srgbClr val="ffffff"/>
              </a:solidFill>
              <a:latin typeface="Arial Rounded MT Bold"/>
            </a:endParaRPr>
          </a:p>
          <a:p>
            <a:pPr marL="33948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Gill Sans MT Schoolbook"/>
              </a:rPr>
              <a:t>     </a:t>
            </a:r>
            <a:r>
              <a:rPr b="0" lang="en-GB" sz="2000" spc="-1" strike="noStrike">
                <a:solidFill>
                  <a:srgbClr val="ffffff"/>
                </a:solidFill>
                <a:latin typeface="Gill Sans MT Schoolbook"/>
              </a:rPr>
              <a:t>At x 50 magnification we could see the cells clearly.  </a:t>
            </a:r>
            <a:endParaRPr b="0" lang="en-US" sz="2000" spc="-1" strike="noStrike">
              <a:solidFill>
                <a:srgbClr val="ffffff"/>
              </a:solidFill>
              <a:latin typeface="Arial Rounded MT Bold"/>
            </a:endParaRPr>
          </a:p>
          <a:p>
            <a:pPr marL="33948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Gill Sans MT Schoolbook"/>
              </a:rPr>
              <a:t>     </a:t>
            </a:r>
            <a:r>
              <a:rPr b="0" lang="en-GB" sz="2000" spc="-1" strike="noStrike">
                <a:solidFill>
                  <a:srgbClr val="ffffff"/>
                </a:solidFill>
                <a:latin typeface="Gill Sans MT Schoolbook"/>
              </a:rPr>
              <a:t>At x 100 magnification we could see individual cells, and the cell</a:t>
            </a:r>
            <a:r>
              <a:rPr b="0" lang="en-GB" sz="20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Gill Sans MT Schoolbook"/>
              </a:rPr>
              <a:t>walls containing the cytoplasm.</a:t>
            </a:r>
            <a:endParaRPr b="0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pic>
        <p:nvPicPr>
          <p:cNvPr id="148" name="Picture 4" descr="mad_scientist_magnifying_glass_hg_clr"/>
          <p:cNvPicPr/>
          <p:nvPr/>
        </p:nvPicPr>
        <p:blipFill>
          <a:blip r:embed="rId1"/>
          <a:stretch/>
        </p:blipFill>
        <p:spPr>
          <a:xfrm>
            <a:off x="7164360" y="476280"/>
            <a:ext cx="1093680" cy="130644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5"/>
          <p:cNvSpPr/>
          <p:nvPr/>
        </p:nvSpPr>
        <p:spPr>
          <a:xfrm>
            <a:off x="-36360" y="-27000"/>
            <a:ext cx="504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8 of 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6"/>
          <p:cNvSpPr/>
          <p:nvPr/>
        </p:nvSpPr>
        <p:spPr>
          <a:xfrm>
            <a:off x="8028000" y="-27000"/>
            <a:ext cx="115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Peter Loader @ TL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 Rounded MT Bold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9T11:59:39Z</dcterms:created>
  <dc:creator>The Learning Trust</dc:creator>
  <dc:description/>
  <dc:language>en-US</dc:language>
  <cp:lastModifiedBy>LEGION2</cp:lastModifiedBy>
  <dcterms:modified xsi:type="dcterms:W3CDTF">2016-01-11T13:35:08Z</dcterms:modified>
  <cp:revision>48</cp:revision>
  <dc:subject/>
  <dc:title>Making a microscope slide</dc:title>
</cp:coreProperties>
</file>